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0E2-AE02-4CFB-BFA1-B325894C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724-07F9-4418-9B80-E01478A5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201-3FD5-4D98-B491-051A12EA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80F-3D44-49D3-B0A3-AF363CA1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B11-78FB-46F8-A6A9-7979A7DD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FA7-F8B1-4E9F-B7A3-8F065D23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35A-FCB1-4DC3-9588-CA924BA5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C96-BF62-49D0-B652-C55B4965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AD4-C4C0-4B13-9FB1-805C7203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E1D-24D1-4A1E-BD1D-FE2E0667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810-0BA1-4009-B710-CF95B99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199-6B19-4E7E-A7E9-76ABD7DB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B96-03C1-4439-9268-32805ED9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1877" t="20693" r="25428" b="22029"/>
          <a:stretch/>
        </p:blipFill>
        <p:spPr>
          <a:xfrm>
            <a:off x="684360" y="549360"/>
            <a:ext cx="7343640" cy="4987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9640" y="4221000"/>
            <a:ext cx="1582560" cy="432000"/>
          </a:xfrm>
          <a:prstGeom prst="wedgeRectCallout">
            <a:avLst>
              <a:gd name="adj1" fmla="val -29837"/>
              <a:gd name="adj2" fmla="val -94851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Tabular grid for editing tag keys and tag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221000"/>
            <a:ext cx="1582920" cy="432000"/>
          </a:xfrm>
          <a:prstGeom prst="wedgeRectCallout">
            <a:avLst>
              <a:gd name="adj1" fmla="val 31245"/>
              <a:gd name="adj2" fmla="val -105148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uto-completion in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4869000"/>
            <a:ext cx="2303280" cy="720720"/>
          </a:xfrm>
          <a:prstGeom prst="wedgeRectCallout">
            <a:avLst>
              <a:gd name="adj1" fmla="val 54064"/>
              <a:gd name="adj2" fmla="val -84800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Preview of auto-completion values. Distinguishes between "official" values and user-defined values in the current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44640"/>
            <a:ext cx="1152360" cy="432000"/>
          </a:xfrm>
          <a:prstGeom prst="wedgeRectCallout">
            <a:avLst>
              <a:gd name="adj1" fmla="val 116944"/>
              <a:gd name="adj2" fmla="val 29046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JOSM presets, search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620640"/>
            <a:ext cx="1728720" cy="432000"/>
          </a:xfrm>
          <a:prstGeom prst="wedgeRectCallout">
            <a:avLst>
              <a:gd name="adj1" fmla="val -90680"/>
              <a:gd name="adj2" fmla="val 91175"/>
            </a:avLst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Table of "offical" map features, search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08:42Z</dcterms:created>
  <dc:creator>karl</dc:creator>
  <dc:description/>
  <dc:language>en-US</dc:language>
  <cp:lastModifiedBy>karl</cp:lastModifiedBy>
  <dcterms:modified xsi:type="dcterms:W3CDTF">2009-03-29T17:09:30Z</dcterms:modified>
  <cp:revision>1</cp:revision>
  <dc:subject/>
  <dc:title>Folie 1</dc:title>
</cp:coreProperties>
</file>