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3CC-8EEF-4EE2-84FF-78EC287D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BC0-E7B6-474E-B6C9-96A41741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F7B-6C7A-4F4D-8995-E657AACF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596-D2D6-4836-86C4-EF160276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E90-90C1-469A-88C1-8C896C92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AC8-1B1C-401B-9EBF-800A49D0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906-E850-489E-8F23-D2AF3807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CBC-BCB8-408C-89E9-A6442B76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D6E-25A5-42DA-84B7-DE56D145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DE8-D740-4136-B979-A281BF2F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672-C3BE-42FD-ABD6-0E2EE85B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C7B-5D52-49D9-85BC-0AABAE00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811F-64B8-43CD-8058-6A3B887A8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1877" t="20693" r="25428" b="22029"/>
          <a:stretch/>
        </p:blipFill>
        <p:spPr>
          <a:xfrm>
            <a:off x="684360" y="549360"/>
            <a:ext cx="7343640" cy="4987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19640" y="4221000"/>
            <a:ext cx="1582560" cy="432000"/>
          </a:xfrm>
          <a:prstGeom prst="wedgeRectCallout">
            <a:avLst>
              <a:gd name="adj1" fmla="val -29837"/>
              <a:gd name="adj2" fmla="val -94851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Tabular grid for editing tag keys and tag val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4221000"/>
            <a:ext cx="1582920" cy="432000"/>
          </a:xfrm>
          <a:prstGeom prst="wedgeRectCallout">
            <a:avLst>
              <a:gd name="adj1" fmla="val 31245"/>
              <a:gd name="adj2" fmla="val -105148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uto-completion in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4869000"/>
            <a:ext cx="2303280" cy="720720"/>
          </a:xfrm>
          <a:prstGeom prst="wedgeRectCallout">
            <a:avLst>
              <a:gd name="adj1" fmla="val 54064"/>
              <a:gd name="adj2" fmla="val -84800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Preview of auto-completion values. Distinguishes between "official" values and user-defined values in the current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44640"/>
            <a:ext cx="1152360" cy="432000"/>
          </a:xfrm>
          <a:prstGeom prst="wedgeRectCallout">
            <a:avLst>
              <a:gd name="adj1" fmla="val 116944"/>
              <a:gd name="adj2" fmla="val 29046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JOSM presets, search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620640"/>
            <a:ext cx="1728720" cy="432000"/>
          </a:xfrm>
          <a:prstGeom prst="wedgeRectCallout">
            <a:avLst>
              <a:gd name="adj1" fmla="val -90680"/>
              <a:gd name="adj2" fmla="val 91175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Table of "offical" map features, search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08:42Z</dcterms:created>
  <dc:creator>karl</dc:creator>
  <dc:description/>
  <dc:language>en-US</dc:language>
  <cp:lastModifiedBy>karl</cp:lastModifiedBy>
  <dcterms:modified xsi:type="dcterms:W3CDTF">2009-03-29T17:09:30Z</dcterms:modified>
  <cp:revision>1</cp:revision>
  <dc:subject/>
  <dc:title>Folie 1</dc:title>
</cp:coreProperties>
</file>